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D601-6044-4486-A529-091BC76B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0556-8189-4588-8AA2-6B56031D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A193-B097-4283-9494-74AC13EE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0940-ED0C-4CDE-AFC6-B8525EBC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F59-80E7-402B-8775-B9463E75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2425-0434-45A1-BB31-5C416FA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198-A9C1-4789-B3C8-DF61898D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A7B-8130-45C3-9DAA-B6D9F6D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EEF-E7CD-4630-A042-460AA536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2FC4-E081-41F5-8E41-E301D1D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14A-B0A7-46F3-8930-DD53051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776F-D48A-49FF-A0AB-8D41DACC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EBE9-74C4-4803-933B-6B67FA09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762A-F2C8-4D95-A1D0-319538E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9FA-BA73-493A-B5FA-0BAB210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3EB-B0B5-4B03-82E6-DD6746AF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AE83-D389-4BB2-B4A2-D57A02A3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3994-B03A-48EB-868C-F8CD1818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EE1A-3921-4608-A23A-C4274091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2E6E-7240-4C9A-9097-31CAE45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369D-576E-4E83-AE24-2C753468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323B-6AD7-495E-83CE-0E3EAD1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4E61-980B-438C-A34A-D3334CE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98E1-C511-48EE-A23C-2D34047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29AC-33E8-44E7-B1D8-F1403A494E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9F8-0D8D-44E4-AF5F-D228909FA4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¿Quién tiene la cabeza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amise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orej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0532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orej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3352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zapat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2220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zapat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hombr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07828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1616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hombr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bufand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616040" cy="2361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bufand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boc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24080" y="4267080"/>
            <a:ext cx="28195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boc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ded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19160" cy="239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352680" y="4632480"/>
            <a:ext cx="22431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ded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dedos del pie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243160" cy="222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19814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dedos del pie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suéter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1981440" cy="11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suéter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gorr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429000" y="4789440"/>
            <a:ext cx="24382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gorr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pantalon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438280" cy="1882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1933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abez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pi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25905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pantalon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man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933560" cy="2638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0" t="0" r="0" b="19793"/>
          <a:stretch/>
        </p:blipFill>
        <p:spPr>
          <a:xfrm>
            <a:off x="3352680" y="4581360"/>
            <a:ext cx="25146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man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3504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sudader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19793"/>
          <a:stretch/>
        </p:blipFill>
        <p:spPr>
          <a:xfrm>
            <a:off x="3200400" y="137160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sudadero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lengu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lengu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guant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2322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guant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espald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2322720" cy="2361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29000" y="4475160"/>
            <a:ext cx="25909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espald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calcetine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2590560" cy="2382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calcetin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gargan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1990800" cy="2133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gargan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bota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2939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bota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cuerp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008440" cy="2209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1869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¡Yo tengo el cuerpo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¡Fantástico!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75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pie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nariz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1969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47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nariz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braz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171936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1689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braz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el pelo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218124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320040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el pelo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3733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os ojo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200400" cy="18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8120" y="4800600"/>
            <a:ext cx="30477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os ojo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chaque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3048120" cy="150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 chaqueta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s piernas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43080" cy="213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226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Yo tengo las piernas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¿Quién tiene la camiseta?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19564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2:15:48Z</dcterms:created>
  <dc:creator>Amy</dc:creator>
  <dc:description/>
  <dc:language>en-US</dc:language>
  <cp:lastModifiedBy>User</cp:lastModifiedBy>
  <dcterms:modified xsi:type="dcterms:W3CDTF">2011-04-25T15:12:01Z</dcterms:modified>
  <cp:revision>3</cp:revision>
  <dc:subject/>
  <dc:title>¿Quién tiene la cabeza?</dc:title>
</cp:coreProperties>
</file>